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6265-30AC-4B6F-903B-7104F63C0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04CE-18CA-4ECC-954F-A8E98ED5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77AD-E9E1-48C7-A887-EFD88F5AF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DD97-4099-4A57-A935-FA92441B0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008A-F8DF-4704-A476-9493A1B5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AE30-3DE1-4261-91DE-E603E349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EF23-8965-4D02-BE0B-EEC5E50E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B4FE-E718-4E4E-A54E-80235DEB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EA12-D35C-41E7-A82C-0D40CC54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1908-6CE6-4E2F-8485-7E49EE2A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0FA4-195D-445F-8490-C4719308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A4C7-A8C8-488D-BA41-29837A0F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DD80-54C4-488B-9D4C-052ACB502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876920"/>
            <a:ext cx="615636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ff"/>
                </a:solidFill>
                <a:latin typeface="Tahoma"/>
                <a:cs typeface="????Boutros Rokaa"/>
              </a:rPr>
              <a:t>أنا ندمان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57080" y="27000"/>
            <a:ext cx="5651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مبارح كنت لحال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متل الغصن اليابس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ما عم بسأل عنَّك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وهلّق صرت قبال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وقلبي نورَك لابس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تركني قرِّب منَّك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92000" y="0"/>
            <a:ext cx="5651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أنا إنسان</a:t>
            </a:r>
            <a:br>
              <a:rPr sz="7200"/>
            </a:b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اعطيني حبَّك</a:t>
            </a:r>
            <a:br>
              <a:rPr sz="7200"/>
            </a:b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أنا ندمان</a:t>
            </a:r>
            <a:br>
              <a:rPr sz="7200"/>
            </a:b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احميني بدارَك</a:t>
            </a:r>
            <a:br>
              <a:rPr sz="7200"/>
            </a:b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أنا إنسان أنا ندمان</a:t>
            </a:r>
            <a:br>
              <a:rPr sz="7200"/>
            </a:b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ما تحرمني منَّ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40000" y="0"/>
            <a:ext cx="5003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ff"/>
                </a:solidFill>
                <a:latin typeface="Arial"/>
                <a:cs typeface="Akhbar MT"/>
              </a:rPr>
              <a:t>أنا موجوع</a:t>
            </a:r>
            <a:br>
              <a:rPr sz="7200"/>
            </a:br>
            <a:r>
              <a:rPr b="1" lang="hi-IN" sz="7200" spc="-1" strike="noStrike">
                <a:solidFill>
                  <a:srgbClr val="ffffff"/>
                </a:solidFill>
                <a:latin typeface="Arial"/>
                <a:cs typeface="Akhbar MT"/>
              </a:rPr>
              <a:t>صرلي سنين</a:t>
            </a:r>
            <a:br>
              <a:rPr sz="7200"/>
            </a:br>
            <a:r>
              <a:rPr b="1" lang="hi-IN" sz="7200" spc="-1" strike="noStrike">
                <a:solidFill>
                  <a:srgbClr val="ffffff"/>
                </a:solidFill>
                <a:latin typeface="Arial"/>
                <a:cs typeface="Akhbar MT"/>
              </a:rPr>
              <a:t>غرقان بليل الكذبي عذاب دموع</a:t>
            </a:r>
            <a:br>
              <a:rPr sz="7200"/>
            </a:br>
            <a:r>
              <a:rPr b="1" lang="hi-IN" sz="7200" spc="-1" strike="noStrike">
                <a:solidFill>
                  <a:srgbClr val="ffffff"/>
                </a:solidFill>
                <a:latin typeface="Arial"/>
                <a:cs typeface="Akhbar MT"/>
              </a:rPr>
              <a:t>وغيرَك مين</a:t>
            </a:r>
            <a:br>
              <a:rPr sz="7200"/>
            </a:br>
            <a:r>
              <a:rPr b="1" lang="hi-IN" sz="7200" spc="-1" strike="noStrike">
                <a:solidFill>
                  <a:srgbClr val="ffffff"/>
                </a:solidFill>
                <a:latin typeface="Arial"/>
                <a:cs typeface="Akhbar MT"/>
              </a:rPr>
              <a:t>قادر يشفي يا ربّي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92000" y="0"/>
            <a:ext cx="5651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أنا بردان</a:t>
            </a:r>
            <a:br>
              <a:rPr sz="7200"/>
            </a:b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اعطيني نارَك</a:t>
            </a:r>
            <a:br>
              <a:rPr sz="7200"/>
            </a:b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أنا هربان</a:t>
            </a:r>
            <a:br>
              <a:rPr sz="7200"/>
            </a:b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احميني بدارَك</a:t>
            </a:r>
            <a:br>
              <a:rPr sz="7200"/>
            </a:b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أنا إنسان أنا ندمان</a:t>
            </a:r>
            <a:br>
              <a:rPr sz="7200"/>
            </a:b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ما تحرمني منَّ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2:00:33Z</dcterms:created>
  <dc:creator>-</dc:creator>
  <dc:description/>
  <dc:language>en-US</dc:language>
  <cp:lastModifiedBy>-</cp:lastModifiedBy>
  <dcterms:modified xsi:type="dcterms:W3CDTF">2003-01-17T09:31:22Z</dcterms:modified>
  <cp:revision>5</cp:revision>
  <dc:subject/>
  <dc:title>Slide 1</dc:title>
</cp:coreProperties>
</file>